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png" ContentType="image/png"/>
  <Override PartName="/ppt/media/image1.wmf" ContentType="image/x-wmf"/>
  <Override PartName="/ppt/media/image5.gif" ContentType="image/gif"/>
  <Override PartName="/ppt/media/image31.wmf" ContentType="image/x-wmf"/>
  <Override PartName="/ppt/media/image38.jpeg" ContentType="image/jpeg"/>
  <Override PartName="/ppt/media/image25.gif" ContentType="image/gif"/>
  <Override PartName="/ppt/media/image24.png" ContentType="image/png"/>
  <Override PartName="/ppt/media/image22.png" ContentType="image/png"/>
  <Override PartName="/ppt/media/image21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6.wmf" ContentType="image/x-wmf"/>
  <Override PartName="/ppt/media/image10.png" ContentType="image/png"/>
  <Override PartName="/ppt/media/image35.jpeg" ContentType="image/jpeg"/>
  <Override PartName="/ppt/media/image9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37.png" ContentType="image/png"/>
  <Override PartName="/ppt/media/image4.jpeg" ContentType="image/jpeg"/>
  <Override PartName="/ppt/media/image3.gif" ContentType="image/gif"/>
  <Override PartName="/ppt/media/image26.gif" ContentType="image/gif"/>
  <Override PartName="/ppt/media/image12.png" ContentType="image/png"/>
  <Override PartName="/ppt/media/image23.jpeg" ContentType="image/jpeg"/>
  <Override PartName="/ppt/media/image14.jpeg" ContentType="image/jpeg"/>
  <Override PartName="/ppt/media/image15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24E-DBC4-482E-84D4-847B13AC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B79-15F4-454F-878C-1809FC41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C8E-3CA4-4413-9B92-C5C8FED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EB7-4884-4069-9344-82E34B50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914-87A5-468E-8FFE-D9070C54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E03-E5DF-4780-99C2-E4A9EE1B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A70-3310-4CD5-8306-E5B3D95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309-4A6C-42CF-B6E3-663CE8F8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616-F5A2-421E-A128-A447133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38C-2696-4F10-8B5F-BBA35AD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54D-931B-47E3-94C0-E64DE9AB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110-4F81-47F6-A4B7-CCF610D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68A-4D4B-446C-90A7-9CD244098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nellinfrared.com/library/_view_msg.asp?refid=19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qksrv.net/click-291217-10273794?url=http%3A%2F%2Fwww.posternow.de%2Fonlineshop%2FDirectLinks.tpl%3Flan%3D1%26cod%3D1%26aid%3D8460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RISM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144520"/>
            <a:ext cx="85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ctromagnetic Waves &amp;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lectromagnetic Spectru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RADIO WAVES</a:t>
            </a:r>
            <a:endParaRPr b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6760" y="206856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onge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wavelengths an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owes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equencies of all the electromagnetic waves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3106800" y="1963800"/>
            <a:ext cx="9360" cy="9360"/>
            <a:chOff x="3106800" y="1963800"/>
            <a:chExt cx="9360" cy="9360"/>
          </a:xfrm>
        </p:grpSpPr>
        <p:grpSp>
          <p:nvGrpSpPr>
            <p:cNvPr id="83" name="Group 5"/>
            <p:cNvGrpSpPr/>
            <p:nvPr/>
          </p:nvGrpSpPr>
          <p:grpSpPr>
            <a:xfrm>
              <a:off x="3111480" y="1968480"/>
              <a:ext cx="360" cy="360"/>
              <a:chOff x="3111480" y="1968480"/>
              <a:chExt cx="360" cy="360"/>
            </a:xfrm>
          </p:grpSpPr>
          <p:sp>
            <p:nvSpPr>
              <p:cNvPr id="84" name="Rectangle 6"/>
              <p:cNvSpPr/>
              <p:nvPr/>
            </p:nvSpPr>
            <p:spPr>
              <a:xfrm>
                <a:off x="3111480" y="1968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Rectangle 7"/>
              <p:cNvSpPr/>
              <p:nvPr/>
            </p:nvSpPr>
            <p:spPr>
              <a:xfrm>
                <a:off x="3111480" y="196848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6" name="Rectangle 8"/>
            <p:cNvSpPr/>
            <p:nvPr/>
          </p:nvSpPr>
          <p:spPr>
            <a:xfrm>
              <a:off x="3106800" y="1963800"/>
              <a:ext cx="9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5056200" y="1719360"/>
            <a:ext cx="3913200" cy="468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6840" y="34128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lobal Positioning Systems (GPS) measure the time it takes a radio wave to travel from several satellites to the receiver, determining the distance to each satellit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5" descr="Image Preview"/>
          <p:cNvPicPr/>
          <p:nvPr/>
        </p:nvPicPr>
        <p:blipFill>
          <a:blip r:embed="rId1"/>
          <a:stretch/>
        </p:blipFill>
        <p:spPr>
          <a:xfrm>
            <a:off x="4962600" y="2720880"/>
            <a:ext cx="3821040" cy="3673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age Preview"/>
          <p:cNvPicPr/>
          <p:nvPr/>
        </p:nvPicPr>
        <p:blipFill>
          <a:blip r:embed="rId2"/>
          <a:stretch/>
        </p:blipFill>
        <p:spPr>
          <a:xfrm>
            <a:off x="789120" y="3228840"/>
            <a:ext cx="3448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239760"/>
            <a:ext cx="84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radio picks up radio waves through an antenna and converts it t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ound wav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ch radio station in an area broadcasts at a different frequency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n radio dial tells frequenc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5" descr="MCj02158010000[1]"/>
          <p:cNvPicPr/>
          <p:nvPr/>
        </p:nvPicPr>
        <p:blipFill>
          <a:blip r:embed="rId1"/>
          <a:stretch/>
        </p:blipFill>
        <p:spPr>
          <a:xfrm>
            <a:off x="1795320" y="2852640"/>
            <a:ext cx="559764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072"/>
          <p:cNvPicPr/>
          <p:nvPr/>
        </p:nvPicPr>
        <p:blipFill>
          <a:blip r:embed="rId1"/>
          <a:stretch/>
        </p:blipFill>
        <p:spPr>
          <a:xfrm>
            <a:off x="2550960" y="2681280"/>
            <a:ext cx="3916440" cy="391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44400" y="357120"/>
            <a:ext cx="805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RI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MAGNETIC RESONACE IMAG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Short wave radio waves with a magnet to create an im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CROWAV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4240" y="1647720"/>
            <a:ext cx="4435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he shortest wavelengths and the highest frequency of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adio waves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342040" y="1547640"/>
            <a:ext cx="2465280" cy="491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0840" y="893880"/>
            <a:ext cx="43480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in microwave ove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ves transfer energy to the water in the food causing them to vibrate which in turn transfers energy in the form of heat to the foo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6" descr="MCj03356520000[1]"/>
          <p:cNvPicPr/>
          <p:nvPr/>
        </p:nvPicPr>
        <p:blipFill>
          <a:blip r:embed="rId1"/>
          <a:stretch/>
        </p:blipFill>
        <p:spPr>
          <a:xfrm>
            <a:off x="514440" y="2157480"/>
            <a:ext cx="43336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7800" y="1981080"/>
            <a:ext cx="43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ADA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tecti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ging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d to find the speed of an object by sending out radio waves and measuring the time it takes them to retur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5" descr="Image Preview"/>
          <p:cNvPicPr/>
          <p:nvPr/>
        </p:nvPicPr>
        <p:blipFill>
          <a:blip r:embed="rId1"/>
          <a:stretch/>
        </p:blipFill>
        <p:spPr>
          <a:xfrm>
            <a:off x="4976640" y="1573200"/>
            <a:ext cx="37069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FRARED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15560" y="1719000"/>
            <a:ext cx="3868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Infrar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= below r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microwave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813280" y="1327320"/>
            <a:ext cx="2286000" cy="55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can feel the longest ones as warmth on your sk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rm objects give off more heat energy than cool objec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7" descr="Image Preview"/>
          <p:cNvPicPr/>
          <p:nvPr/>
        </p:nvPicPr>
        <p:blipFill>
          <a:blip r:embed="rId1"/>
          <a:stretch/>
        </p:blipFill>
        <p:spPr>
          <a:xfrm>
            <a:off x="5194440" y="2039760"/>
            <a:ext cx="370656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ob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0760" y="2532240"/>
            <a:ext cx="4683240" cy="4325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57184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04920" y="244440"/>
            <a:ext cx="859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mogra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—a picture that shows regions of different temperatures in the body.  Temperatures are calculated by the amount of infrared radiation given off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6" descr="Image Preview"/>
          <p:cNvPicPr/>
          <p:nvPr/>
        </p:nvPicPr>
        <p:blipFill>
          <a:blip r:embed="rId3"/>
          <a:stretch/>
        </p:blipFill>
        <p:spPr>
          <a:xfrm>
            <a:off x="0" y="2924280"/>
            <a:ext cx="4392720" cy="34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3640" y="1836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fore people give off infrared r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8240" y="164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t lamps give off infrared wav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Electromagnetic Wave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63320"/>
            <a:ext cx="86104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ransverse waves without a medium!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They can travel throug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empty spa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" name="Picture 9" descr="Image Preview"/>
          <p:cNvPicPr/>
          <p:nvPr/>
        </p:nvPicPr>
        <p:blipFill>
          <a:blip r:embed="rId1"/>
          <a:stretch/>
        </p:blipFill>
        <p:spPr>
          <a:xfrm>
            <a:off x="1670040" y="2676600"/>
            <a:ext cx="5978520" cy="418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ISIBLE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312560"/>
            <a:ext cx="52498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rter wavelength and higher frequency than infrared ray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omagnetic waves w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can se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Longest wavelength= red l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Comic Sans MS"/>
              </a:rPr>
              <a:t>Shortest wavelength= violet (purple) l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9640" y="1263600"/>
            <a:ext cx="2186280" cy="559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3" descr="Prism.gif"/>
          <p:cNvPicPr/>
          <p:nvPr/>
        </p:nvPicPr>
        <p:blipFill>
          <a:blip r:embed="rId1"/>
          <a:stretch/>
        </p:blipFill>
        <p:spPr>
          <a:xfrm>
            <a:off x="741240" y="3379680"/>
            <a:ext cx="4044960" cy="30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prism"/>
          <p:cNvPicPr/>
          <p:nvPr/>
        </p:nvPicPr>
        <p:blipFill>
          <a:blip r:embed="rId2"/>
          <a:stretch/>
        </p:blipFill>
        <p:spPr>
          <a:xfrm>
            <a:off x="507960" y="282600"/>
            <a:ext cx="4937040" cy="246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527800" y="1446120"/>
            <a:ext cx="32814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light enters a new medium it bends (refracts).  Each wavelength bends a different amount allowing white light to separate into it’s various color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OYGBIV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olors vs. wavelengths.jpg"/>
          <p:cNvPicPr/>
          <p:nvPr/>
        </p:nvPicPr>
        <p:blipFill>
          <a:blip r:embed="rId1"/>
          <a:stretch/>
        </p:blipFill>
        <p:spPr>
          <a:xfrm>
            <a:off x="965160" y="2368440"/>
            <a:ext cx="6886440" cy="36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TextBox 2"/>
          <p:cNvSpPr/>
          <p:nvPr/>
        </p:nvSpPr>
        <p:spPr>
          <a:xfrm>
            <a:off x="438120" y="263520"/>
            <a:ext cx="76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erent colors have differ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velengths.  Red has longest and violet h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hor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LTRAVIOLET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9680" y="1415880"/>
            <a:ext cx="442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orter wavelength and higher frequency than visible ligh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re energ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than visible ligh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826240" y="1273320"/>
            <a:ext cx="2760480" cy="536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d 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kill bacteria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(Sterilization of equipment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5" descr="Image Preview"/>
          <p:cNvPicPr/>
          <p:nvPr/>
        </p:nvPicPr>
        <p:blipFill>
          <a:blip r:embed="rId1"/>
          <a:stretch/>
        </p:blipFill>
        <p:spPr>
          <a:xfrm>
            <a:off x="4219560" y="2255760"/>
            <a:ext cx="49244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88680"/>
            <a:ext cx="77724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o much can cause skin cance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 sun block to protect against (UV ray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5" descr="Image Preview"/>
          <p:cNvPicPr/>
          <p:nvPr/>
        </p:nvPicPr>
        <p:blipFill>
          <a:blip r:embed="rId1"/>
          <a:stretch/>
        </p:blipFill>
        <p:spPr>
          <a:xfrm>
            <a:off x="544680" y="3171960"/>
            <a:ext cx="3779640" cy="34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564530000[1]"/>
          <p:cNvPicPr/>
          <p:nvPr/>
        </p:nvPicPr>
        <p:blipFill>
          <a:blip r:embed="rId2"/>
          <a:stretch/>
        </p:blipFill>
        <p:spPr>
          <a:xfrm>
            <a:off x="5289480" y="29718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73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uses your skin to produc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vitamin 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good for teeth and bone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5" descr="vitamin_d"/>
          <p:cNvPicPr/>
          <p:nvPr/>
        </p:nvPicPr>
        <p:blipFill>
          <a:blip r:embed="rId1"/>
          <a:stretch/>
        </p:blipFill>
        <p:spPr>
          <a:xfrm>
            <a:off x="4367160" y="1174680"/>
            <a:ext cx="460224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X-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1091880"/>
            <a:ext cx="4029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UV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rry a great amount of energ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n penetrate most matte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511960" y="923760"/>
            <a:ext cx="2982600" cy="566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ray7"/>
          <p:cNvPicPr/>
          <p:nvPr/>
        </p:nvPicPr>
        <p:blipFill>
          <a:blip r:embed="rId1"/>
          <a:stretch/>
        </p:blipFill>
        <p:spPr>
          <a:xfrm>
            <a:off x="1577880" y="1805040"/>
            <a:ext cx="6478560" cy="4843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61960" y="357120"/>
            <a:ext cx="8278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ones and tee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bsor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x-rays. (The light part of an x-ray image indicates a place where the x-ray was absorb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28480" y="14605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o much exposu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can cause canc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lead vest at dentist protects organs from unnecessary exposur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8" descr="Image Preview"/>
          <p:cNvPicPr/>
          <p:nvPr/>
        </p:nvPicPr>
        <p:blipFill>
          <a:blip r:embed="rId1"/>
          <a:stretch/>
        </p:blipFill>
        <p:spPr>
          <a:xfrm>
            <a:off x="5900760" y="1979640"/>
            <a:ext cx="202896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3760" y="282600"/>
            <a:ext cx="8570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travel a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vibrations in electrical and magnetic field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 some magnetic and some electrical properties to the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" name="Picture 5" descr="an animated electromagnetic wave"/>
          <p:cNvPicPr/>
          <p:nvPr/>
        </p:nvPicPr>
        <p:blipFill>
          <a:blip r:embed="rId1"/>
          <a:stretch/>
        </p:blipFill>
        <p:spPr>
          <a:xfrm>
            <a:off x="2192400" y="3297240"/>
            <a:ext cx="5207040" cy="277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emwave"/>
          <p:cNvPicPr/>
          <p:nvPr/>
        </p:nvPicPr>
        <p:blipFill>
          <a:blip r:embed="rId2"/>
          <a:stretch/>
        </p:blipFill>
        <p:spPr>
          <a:xfrm>
            <a:off x="246240" y="3287880"/>
            <a:ext cx="851688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ngineer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check for tiny cracks in structur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ays pass through the cracks and the cracks appear dark on fil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5" descr="Image Preview"/>
          <p:cNvPicPr/>
          <p:nvPr/>
        </p:nvPicPr>
        <p:blipFill>
          <a:blip r:embed="rId1"/>
          <a:stretch/>
        </p:blipFill>
        <p:spPr>
          <a:xfrm>
            <a:off x="4352760" y="2125800"/>
            <a:ext cx="396720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GAMMA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080" y="1661760"/>
            <a:ext cx="5234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rry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greatest amount of energ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penetrate the most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26540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6148440" y="1273320"/>
            <a:ext cx="2189160" cy="535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878040"/>
            <a:ext cx="77724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d i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radiation treatmen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kill cancer cell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n be very harmful if not used correctly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5" descr="Image Preview"/>
          <p:cNvPicPr/>
          <p:nvPr/>
        </p:nvPicPr>
        <p:blipFill>
          <a:blip r:embed="rId1"/>
          <a:stretch/>
        </p:blipFill>
        <p:spPr>
          <a:xfrm>
            <a:off x="2332080" y="3408480"/>
            <a:ext cx="468324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Incredible Hulk was the victim of gamma radiation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The Incredible Hulk - Incredible Hulk, The - Pic 1  ( Glossy Photos 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1680" y="1255680"/>
            <a:ext cx="3671640" cy="46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1824120"/>
            <a:ext cx="4011480" cy="33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xploding nuclear weapons emit gamma rays.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optbomb_sm"/>
          <p:cNvPicPr/>
          <p:nvPr/>
        </p:nvPicPr>
        <p:blipFill>
          <a:blip r:embed="rId1"/>
          <a:stretch/>
        </p:blipFill>
        <p:spPr>
          <a:xfrm>
            <a:off x="4881600" y="2151000"/>
            <a:ext cx="3957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Brief SUMMAR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ll electromagnetic wav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ravel at the same speed.  (300,000,000 meters/second) in a vacu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 They all have differe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avelength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differe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frequenc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g wavelength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west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rt wavelengt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ighest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higher the frequency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er the energ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MSpec"/>
          <p:cNvPicPr/>
          <p:nvPr/>
        </p:nvPicPr>
        <p:blipFill>
          <a:blip r:embed="rId1"/>
          <a:stretch/>
        </p:blipFill>
        <p:spPr>
          <a:xfrm>
            <a:off x="152280" y="533520"/>
            <a:ext cx="8991720" cy="533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0760" y="299520"/>
            <a:ext cx="846144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an electric field changes, so does the magnetic field.  The changing magnetic field causes the electric field to change.  When one field vibrates—so does the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UL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lectromagnetic wav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4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" name="Picture 4" descr="emw.gif"/>
          <p:cNvPicPr/>
          <p:nvPr/>
        </p:nvPicPr>
        <p:blipFill>
          <a:blip r:embed="rId1"/>
          <a:stretch/>
        </p:blipFill>
        <p:spPr>
          <a:xfrm>
            <a:off x="2409840" y="3359160"/>
            <a:ext cx="4213080" cy="316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33080"/>
            <a:ext cx="775656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lectromagnetic waves travel VERY FAST – around 300,000 kilometres per second (the speed of light)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4" descr="EARTH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they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AutoShape 8"/>
          <p:cNvSpPr/>
          <p:nvPr/>
        </p:nvSpPr>
        <p:spPr>
          <a:xfrm flipH="1" rot="17452200">
            <a:off x="5133600" y="3433680"/>
            <a:ext cx="908280" cy="2644920"/>
          </a:xfrm>
          <a:custGeom>
            <a:avLst/>
            <a:gdLst>
              <a:gd name="textAreaLeft" fmla="*/ 132840 w 908280"/>
              <a:gd name="textAreaRight" fmla="*/ 775440 w 908280"/>
              <a:gd name="textAreaTop" fmla="*/ 387360 h 2644920"/>
              <a:gd name="textAreaBottom" fmla="*/ 2257560 h 2644920"/>
            </a:gdLst>
            <a:ahLst/>
            <a:rect l="textAreaLeft" t="textAreaTop" r="textAreaRight" b="textAreaBottom"/>
            <a:pathLst>
              <a:path w="21600" h="21600">
                <a:moveTo>
                  <a:pt x="15852" y="14946"/>
                </a:moveTo>
                <a:cubicBezTo>
                  <a:pt x="16811" y="13777"/>
                  <a:pt x="17336" y="12312"/>
                  <a:pt x="17336" y="10800"/>
                </a:cubicBezTo>
                <a:cubicBezTo>
                  <a:pt x="17336" y="7190"/>
                  <a:pt x="14409" y="4264"/>
                  <a:pt x="10800" y="4264"/>
                </a:cubicBezTo>
                <a:cubicBezTo>
                  <a:pt x="8866" y="4263"/>
                  <a:pt x="7032" y="5120"/>
                  <a:pt x="5790" y="6602"/>
                </a:cubicBezTo>
                <a:lnTo>
                  <a:pt x="2521" y="3863"/>
                </a:lnTo>
                <a:cubicBezTo>
                  <a:pt x="4573" y="1414"/>
                  <a:pt x="76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298"/>
                  <a:pt x="20733" y="15720"/>
                  <a:pt x="19148" y="17651"/>
                </a:cubicBezTo>
                <a:lnTo>
                  <a:pt x="21235" y="19364"/>
                </a:lnTo>
                <a:lnTo>
                  <a:pt x="14434" y="20034"/>
                </a:lnTo>
                <a:lnTo>
                  <a:pt x="13765" y="13233"/>
                </a:lnTo>
                <a:lnTo>
                  <a:pt x="15852" y="149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ves or Particle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magnetic radiation has properties of waves but also can be thought of a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eam of particl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ght as a wave:  Light behaves as a transverse wave which we can filter using polarized len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ght as particles (photons): When directed at a substance light can knock electrons off of a substance (Photoelectric effec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909960" y="2813040"/>
            <a:ext cx="122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4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6" descr="Polariz.gif"/>
          <p:cNvPicPr/>
          <p:nvPr/>
        </p:nvPicPr>
        <p:blipFill>
          <a:blip r:embed="rId1"/>
          <a:stretch/>
        </p:blipFill>
        <p:spPr>
          <a:xfrm>
            <a:off x="1038240" y="4924440"/>
            <a:ext cx="2743200" cy="14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222px-Photoelectric_effect"/>
          <p:cNvPicPr/>
          <p:nvPr/>
        </p:nvPicPr>
        <p:blipFill>
          <a:blip r:embed="rId2"/>
          <a:stretch/>
        </p:blipFill>
        <p:spPr>
          <a:xfrm>
            <a:off x="5168880" y="4757760"/>
            <a:ext cx="246384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280800"/>
            <a:ext cx="8915400" cy="51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Electromagnetic Spectru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—name for the range of electromagnetic waves when placed in order of increasing frequen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01600" y="2260440"/>
            <a:ext cx="8704440" cy="4597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28480" y="235116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062000" y="3265560"/>
            <a:ext cx="24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1320" y="2351160"/>
            <a:ext cx="1904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FRARED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843360" y="3341520"/>
            <a:ext cx="2552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 LIGH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567320" y="227484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TRAVIOLET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548400" y="318924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-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462800" y="219852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MMA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ize comparison of wavelenghts with respective objects."/>
          <p:cNvPicPr/>
          <p:nvPr/>
        </p:nvPicPr>
        <p:blipFill>
          <a:blip r:embed="rId1"/>
          <a:stretch/>
        </p:blipFill>
        <p:spPr>
          <a:xfrm>
            <a:off x="0" y="2795760"/>
            <a:ext cx="9144000" cy="406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9120" y="189000"/>
            <a:ext cx="866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ice the wavelength i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g (Radio waves) and gets shorter (Gamma Ray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Line 4"/>
          <p:cNvSpPr/>
          <p:nvPr/>
        </p:nvSpPr>
        <p:spPr>
          <a:xfrm flipH="1">
            <a:off x="1355400" y="1146240"/>
            <a:ext cx="955800" cy="2136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635960" y="1157400"/>
            <a:ext cx="669960" cy="20095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4" descr="EMSpec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jluckey</cp:lastModifiedBy>
  <dcterms:modified xsi:type="dcterms:W3CDTF">2014-01-30T15:15:01Z</dcterms:modified>
  <cp:revision>47</cp:revision>
  <dc:subject/>
  <dc:title>PowerPoint Presentation</dc:title>
</cp:coreProperties>
</file>